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72C-C6F0-4922-8D16-33D57CC2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79F-720A-4BE1-8F34-35DBB1A3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EEE-B054-42E4-AD0C-04D320D5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A24-D319-4585-980D-47B3689A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FBB-3138-4D8D-AB78-0A26FB9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295-35C1-46EE-8B1C-1C9919D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92F8-0162-4501-92E6-159AF83E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0E6-0032-4166-9AF6-696A068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F62-8411-446E-862F-BD03CAED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6656-59F4-4E83-9D49-E65F62D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FBDB-D9D3-4C68-BFC3-86D0176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FBB-0537-47C2-9EB1-4EE3B00A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CCC-2080-42DF-BBCA-1C6BEA1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A7D-C479-43E4-9A73-A60EA1C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7C30-30C7-4A26-9857-654DEC8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A492-443B-480C-B4F9-5251CD36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2B3B-9E8C-46EC-9BD1-8AEF7E6C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DC2-444A-4556-8795-00721BA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DD3-4387-4F09-8061-1A8E641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818-183A-4C75-A370-2A603D15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D2F-1186-4C2D-995F-366C7E5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B06-CC1A-4FE3-B22C-27DD73A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123-9120-4B7D-8840-BF4895C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E52-5B47-41AE-AF3C-86CF1FC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3371-0BD8-4EB9-AF32-12B56830FD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2C48-A080-49FD-9EA1-C1A7B5249B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" TargetMode="External"/><Relationship Id="rId2" Type="http://schemas.openxmlformats.org/officeDocument/2006/relationships/hyperlink" Target="http://nauczyciel.pl/" TargetMode="External"/><Relationship Id="rId3" Type="http://schemas.openxmlformats.org/officeDocument/2006/relationships/hyperlink" Target="http://nauczyciel.pl/" TargetMode="External"/><Relationship Id="rId4" Type="http://schemas.openxmlformats.org/officeDocument/2006/relationships/hyperlink" Target="http://nauczyciel.pl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781360"/>
            <a:ext cx="820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RÓWNYWA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ICZ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YMIERNYC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dwóch ułamków o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przeciwnych znakach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większy jest ten, który jest dodatni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u&amp;lstrok;amki na osi liczbowej"/>
          <p:cNvPicPr/>
          <p:nvPr/>
        </p:nvPicPr>
        <p:blipFill>
          <a:blip r:embed="rId1"/>
          <a:stretch/>
        </p:blipFill>
        <p:spPr>
          <a:xfrm>
            <a:off x="1187280" y="3213000"/>
            <a:ext cx="7056720" cy="79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169236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dwa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ujem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, ten jest większy, który ma mniej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4960" y="2674800"/>
            <a:ext cx="4000320" cy="1714320"/>
            <a:chOff x="2334960" y="2674800"/>
            <a:chExt cx="4000320" cy="1714320"/>
          </a:xfrm>
        </p:grpSpPr>
        <p:sp>
          <p:nvSpPr>
            <p:cNvPr id="165" name=""/>
            <p:cNvSpPr/>
            <p:nvPr/>
          </p:nvSpPr>
          <p:spPr>
            <a:xfrm>
              <a:off x="3249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1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4960" y="3589200"/>
              <a:ext cx="4000320" cy="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817800"/>
              <a:ext cx="5216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6640" y="4160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2440" y="2674800"/>
              <a:ext cx="488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78240" y="3931920"/>
              <a:ext cx="3427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440" y="3017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3860640"/>
                <a:ext cx="295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80000" y="2781360"/>
                <a:ext cx="295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16720" y="2133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3141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451640" y="2133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451640" y="3141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0080" y="328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227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39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744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2880" y="22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288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9280" y="2708280"/>
                <a:ext cx="331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84640" y="3860640"/>
                <a:ext cx="44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05560" y="4149720"/>
            <a:ext cx="17384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ziesięt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je porównywać od cyfr położonych z lewej stron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9700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miętaj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dy liczba cyfr po przecinku w porównywanych liczbach nie jest taka sama, to na końcu należy dopisać tyle zer, aby w każdej liczbie było tyle samo cyf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562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1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fry jedności w obu liczbach są jednakowe, więc porównujemy cyfry części dziesiąt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ieważ 3 &gt; 2, zatem większa jest liczba 10,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o&amp;sacute; liczbowa i liczby na osi "/>
          <p:cNvPicPr/>
          <p:nvPr/>
        </p:nvPicPr>
        <p:blipFill>
          <a:blip r:embed="rId1"/>
          <a:stretch/>
        </p:blipFill>
        <p:spPr>
          <a:xfrm>
            <a:off x="1187280" y="1484280"/>
            <a:ext cx="77774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ległość liczb na osi liczbowej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jmujemy, że na osi liczbowej odcinek łączący licz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długoś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nazywamy go odcinkiem jednostkowy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1160" y="4010760"/>
            <a:ext cx="3864240" cy="571680"/>
            <a:chOff x="2621160" y="4010760"/>
            <a:chExt cx="3864240" cy="571680"/>
          </a:xfrm>
        </p:grpSpPr>
        <p:sp>
          <p:nvSpPr>
            <p:cNvPr id="206" name=""/>
            <p:cNvSpPr/>
            <p:nvPr/>
          </p:nvSpPr>
          <p:spPr>
            <a:xfrm>
              <a:off x="2621160" y="4092480"/>
              <a:ext cx="3864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4010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63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4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87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8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2520" y="4174200"/>
              <a:ext cx="47484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4920" y="4174200"/>
              <a:ext cx="42912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8720" y="4092480"/>
              <a:ext cx="572400" cy="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313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szczą się 4 odcinki jednostkowe, więc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69636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6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1,5 odcinka jednostkowego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http://lukas94.files.wordpress.com/2011/03/oc59b4.png"/>
          <p:cNvPicPr/>
          <p:nvPr/>
        </p:nvPicPr>
        <p:blipFill>
          <a:blip r:embed="rId1"/>
          <a:stretch/>
        </p:blipFill>
        <p:spPr>
          <a:xfrm>
            <a:off x="2050920" y="4076640"/>
            <a:ext cx="56880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8 odcinków jednostkowych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http://lukas94.files.wordpress.com/2011/03/oc59b5.png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8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 zauważyłeś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y obliczyć odległość między dwiema liczbami na osi liczbowej, wystarczy od większej z tych liczb odjąć liczbę mniejszą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a jest odległość na osi liczbowej             między liczbami a = −9,1 i b = −3,7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−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1 &lt; −3,7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 −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−3,7 − (−9,1) = −3,7 + 9,1 =  5,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p. Odległość między liczbami a i b wynosi 5,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357720"/>
            <a:ext cx="705636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Od większej z liczb odejmujemy liczbę mniejsz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biory wszystkich liczb spełniających daną nierówność na osi liczbowej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182000" cy="35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508640"/>
            <a:ext cx="7454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latego musisz zapamiętać zasady porównywania ułamków.</a:t>
            </a:r>
            <a:br>
              <a:rPr sz="28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Porównywanie u&amp;lstrok;amków."/>
          <p:cNvPicPr/>
          <p:nvPr/>
        </p:nvPicPr>
        <p:blipFill>
          <a:blip r:embed="rId1"/>
          <a:stretch/>
        </p:blipFill>
        <p:spPr>
          <a:xfrm>
            <a:off x="1201680" y="1052640"/>
            <a:ext cx="79423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równywanie u&amp;lstrok;amków. Metoda ta zawodzi, gdy masz oceni&amp;cacute; np. u&amp;lstrok;amki 3/11 i 3/13 (jak to narysowa&amp;cacute;?)"/>
          <p:cNvPicPr/>
          <p:nvPr/>
        </p:nvPicPr>
        <p:blipFill>
          <a:blip r:embed="rId2"/>
          <a:stretch/>
        </p:blipFill>
        <p:spPr>
          <a:xfrm>
            <a:off x="1116000" y="3068640"/>
            <a:ext cx="80280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360" y="33336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idząc rysunki można ocenić, który ułamek jest większy, a który mniejsz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88000" y="479736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12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zykła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&lt; x ≤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≤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7667640" cy="690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770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sz nierówność, jaką spełniają wszystk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zby z zaznaczonego zbior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63272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0360" cy="135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27280" y="4005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5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znacz na osi liczbowej wszystkie liczby, które spełniają podane nierównoś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≤ -1,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≤ x ≤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51640" y="3357720"/>
            <a:ext cx="2628720" cy="17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teratur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atematyka.opracowania.pl</a:t>
            </a: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nauczyciel.pl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powinna zawierać lub jak ma wyglądać oś liczbowa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76720" cy="3686040"/>
          </a:xfrm>
          <a:prstGeom prst="rect">
            <a:avLst/>
          </a:prstGeom>
          <a:ln w="0">
            <a:noFill/>
          </a:ln>
        </p:spPr>
      </p:pic>
      <p:pic>
        <p:nvPicPr>
          <p:cNvPr id="98" name="Obraz 33" descr="http://www.yan-hurt.pl/DATA/528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88944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Osią liczbową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azywamy prostą, na której obrano punkt 0 i ustalono zwrot oraz jednostkę długości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punkt zerowy na osi, pó&amp;lstrok;o&amp;sacute; dodatnia i ujemna"/>
          <p:cNvPicPr/>
          <p:nvPr/>
        </p:nvPicPr>
        <p:blipFill>
          <a:blip r:embed="rId1"/>
          <a:stretch/>
        </p:blipFill>
        <p:spPr>
          <a:xfrm>
            <a:off x="1692360" y="3357720"/>
            <a:ext cx="589572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34" descr="dggfbfgb.jpeg"/>
          <p:cNvPicPr/>
          <p:nvPr/>
        </p:nvPicPr>
        <p:blipFill>
          <a:blip r:embed="rId2"/>
          <a:stretch/>
        </p:blipFill>
        <p:spPr>
          <a:xfrm>
            <a:off x="468360" y="3933720"/>
            <a:ext cx="811692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05360"/>
            <a:ext cx="790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a podzieliła ciasto na 16 równych kawałkó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ś zjadł 3, a Ela 5 kawałków. Nie masz chyb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łopotu z oceną, kto zjadł więcej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z przełóżmy to na „język ułamków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Porównywanie u&amp;lstrok;amków. Anto&amp;sacute; zjad&amp;lstrok; 3/16 ciasta. Ela zjad&amp;lstrok;a 5/16 ciasta. 3/16 jest mniejsze od 5/16, poniewa&amp;zdot; 3 mniejsze od 5."/>
          <p:cNvPicPr/>
          <p:nvPr/>
        </p:nvPicPr>
        <p:blipFill>
          <a:blip r:embed="rId1"/>
          <a:stretch/>
        </p:blipFill>
        <p:spPr>
          <a:xfrm>
            <a:off x="826920" y="3716280"/>
            <a:ext cx="7632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46083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0000" y="234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80000" y="522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80000" y="429264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42900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266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2000" y="515772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4292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342900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85160" y="2060640"/>
            <a:ext cx="205884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ą nagrodę w Toto-Lotku dzieli się rów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ędzy graczy, którzy skreślili poprawnie szóstk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byś Ty był wygrywającym, to z pewności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łbyś, aby nagroda była dzielona pomiędz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ą liczbę graczy (wtedy wygrana była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Porównywanie u&amp;lstrok;amków. Nagrod&amp;eogon; dziel&amp;aogon; pomi&amp;eogon;dzy 2 graczy. Nagrod&amp;eogon; dziel&amp;aogon; pomi&amp;eogon;dzy 3 graczy. 1/2 jest wi&amp;eogon;ksza od 1/3, poniewa&amp;zdot; 2 mniejsze od 3."/>
          <p:cNvPicPr/>
          <p:nvPr/>
        </p:nvPicPr>
        <p:blipFill>
          <a:blip r:embed="rId1"/>
          <a:stretch/>
        </p:blipFill>
        <p:spPr>
          <a:xfrm>
            <a:off x="755640" y="4581360"/>
            <a:ext cx="81010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32680" y="2133720"/>
            <a:ext cx="2011320" cy="31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odatni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605800" cy="150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Porównywanie ułamków zwykłych - przykład"/>
          <p:cNvPicPr/>
          <p:nvPr/>
        </p:nvPicPr>
        <p:blipFill>
          <a:blip r:embed="rId2"/>
          <a:stretch/>
        </p:blipFill>
        <p:spPr>
          <a:xfrm>
            <a:off x="6877080" y="4437000"/>
            <a:ext cx="21445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2:45Z</dcterms:created>
  <dc:creator>Matematyka</dc:creator>
  <dc:description/>
  <dc:language>en-US</dc:language>
  <cp:lastModifiedBy>x</cp:lastModifiedBy>
  <dcterms:modified xsi:type="dcterms:W3CDTF">2013-04-22T15:19:08Z</dcterms:modified>
  <cp:revision>88</cp:revision>
  <dc:subject/>
  <dc:title>Widząc rysunki można ocenić, który ułamek jest większy, a który mniejszy.   Dlatego musisz zapamiętać zasady porównywania ułamków. Jeżeli ułamki mają takie same mianowniki, to ten jest większy, który ma większy licznik.</dc:title>
</cp:coreProperties>
</file>